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532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51A-5E43-4CC8-81C2-FADD5BA1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672-2CA5-461B-BD6A-DAB36080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580-6035-4859-A252-68276D28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6CA-E9D7-486C-93A7-D6F89DB8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8A91-85D3-4D0D-A2F1-692CA80C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CD3B-2B69-41B2-80B4-7B0A63D1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1D22-3C89-4E52-A1B0-1CDA1FF9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F3BE-E544-4232-BCC0-BD296E9B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1F7D-E4F6-4D41-9A0B-34A96D38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9560" y="22824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CED1-BB44-4CED-85A7-43E3073D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8726-D78B-495C-95D8-29C19B4E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9DD-E4FA-4C83-9595-64D5D03E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B0B6-E950-4BEC-BA84-BDF87154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9842-8F10-479A-A19C-82D90BD5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64BF-8DAD-44F2-9BAD-D8FF896D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4B8E-8C80-44E3-A19F-5BE199E6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C1E0-86C3-4229-A2EE-3F17804C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8A3-C258-4EA1-9C11-86A19EF4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CB67-362A-4F99-ADBF-842310A3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F97-BA4A-4F12-96D1-0721BCE3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560" y="22824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F7E-CCA2-4CF0-9407-6B985B89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68D-BA4A-489F-B566-B911877B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702-2606-47EB-A4F5-9A398DC2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284-4B24-4A5B-BF2E-C173E71E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294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2944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91440" y="62294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BE35-08B2-4960-9A5E-A08DB6B0B8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90720" y="1314360"/>
            <a:ext cx="89154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E0CF-82C2-4E96-BAE9-B8EE3FCF6D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89154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 - Einführu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gebunden in die entsprechenden IP-Vers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-Schicht 3 (Vermittlungsschich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MPv4 definiert im RFC 79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MPv6 definiert im RFC 188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UDP - Pseudo Head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Internet-Protokolle_UDP_Abb2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80769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rivial File Transfer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omain Nam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 - Allgemei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Übertragung von Statusinformationen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nt zu Diagnose- und Optimierungszwe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ICMP - Trig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ehler bei Paketweiterlei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ehler bei Paketverarbei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uboptimaler Zu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fruf eines ICMP-Requ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rhalt eines ICMP-Requ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 - Einschränk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meidung von Schlei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nschränkung der Bandbre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terscheidung von Fragme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00"/>
                </a:solidFill>
                <a:latin typeface="Arial"/>
              </a:rPr>
              <a:t>Gelten nicht für Antworten auf ICMP-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 - Pakettyp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 verschiedene Paketty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d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er differenz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.U. weitere, pakettypspezifische Fel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 - Pakettyp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09680" y="1676520"/>
          <a:ext cx="586260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76520"/>
                    <a:ext cx="5862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Einführu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si-Schicht 4 (Transportschich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finiert in RFC 768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wec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bindung zwischen Vermittlung- und Anwendungsschich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tragung von Datagram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Konze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9029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bindungslose, ungesicherte Kommunik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nig Protokoll-Overhead für effiziente Kommunik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eine Übertragungskontr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eader enthält nur Portnummern, Längenangabe und Prüfsumme des Datagram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Internet-Protokolle_UDP_Abb1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84872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2:24:01Z</dcterms:created>
  <dc:creator>Maik Danstedt</dc:creator>
  <dc:description/>
  <dc:language>en-US</dc:language>
  <cp:lastModifiedBy>Maik Danstedt</cp:lastModifiedBy>
  <cp:lastPrinted>2000-12-01T15:43:27Z</cp:lastPrinted>
  <dcterms:modified xsi:type="dcterms:W3CDTF">2000-12-01T15:43:33Z</dcterms:modified>
  <cp:revision>26</cp:revision>
  <dc:subject/>
  <dc:title>ICMP</dc:title>
</cp:coreProperties>
</file>