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E517-B6BE-415D-91BE-FFBF69CC2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B5E9-76D8-4C3E-9DA2-3FC5363EA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E86-C1AA-4DBC-836B-2CD485A16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EE62-64AF-404F-91A4-4065D53B8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1A31-E26F-40B0-A528-6E5F5312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B5258-0682-48D8-BC55-70E546A3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EF3EB-D600-4B9E-9F08-01A27BD4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3CD5-EB18-4752-9FEE-E71F2469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133D-16B5-4BCE-811B-7A56CDF25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5092-DF97-410E-978D-49FEC837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2888-CCC5-41CF-817D-3C03126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B95B-4EBE-4012-9B13-87C94910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1019-02F5-48EB-81F3-39133950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DC1C-ACA0-4A1A-91B6-099EC4DE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393B-BEFD-47B2-BDEA-6F24A842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A647-58DA-4FE4-8ABF-168162E34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5013-CAC2-4F10-9A3C-6487BDC6A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75AA-3B25-49B2-B38D-1010FEEF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DDD0-B864-42C9-98F1-15F7D852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C330-16CC-44EC-9654-490340F81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6B00-2C79-4950-A4BB-D32B6415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08C5-E517-4FC9-A901-9B9936FF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3B5C-C614-4221-8E2C-EAA77A16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4D6-97EA-43C9-AC6C-1AD7C404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5240" y="1752480"/>
            <a:ext cx="5118120" cy="15264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3040" y="6629400"/>
            <a:ext cx="3797280" cy="2271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25480" y="762120"/>
            <a:ext cx="9078840" cy="7617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UPS-Van" descr=""/>
          <p:cNvPicPr/>
          <p:nvPr/>
        </p:nvPicPr>
        <p:blipFill>
          <a:blip r:embed="rId2"/>
          <a:stretch/>
        </p:blipFill>
        <p:spPr>
          <a:xfrm>
            <a:off x="598320" y="104760"/>
            <a:ext cx="119088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12920" y="0"/>
            <a:ext cx="1568160" cy="685656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50000">
                <a:srgbClr val="ffffff"/>
              </a:gs>
              <a:gs pos="100000">
                <a:srgbClr val="66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43040" y="2438280"/>
            <a:ext cx="9161280" cy="762120"/>
          </a:xfrm>
          <a:prstGeom prst="rect">
            <a:avLst/>
          </a:prstGeom>
          <a:gradFill rotWithShape="0">
            <a:gsLst>
              <a:gs pos="0">
                <a:srgbClr val="66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743040" y="617220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384360" y="617220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7098840" y="617220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505320"/>
            <a:ext cx="5118120" cy="152280"/>
          </a:xfrm>
          <a:prstGeom prst="rect">
            <a:avLst/>
          </a:prstGeom>
          <a:solidFill>
            <a:srgbClr val="ff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228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okumentation einer 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28400" y="4114800"/>
            <a:ext cx="70995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ik Danste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chinformatiker Anwendungsentwickl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Upslogo" descr=""/>
          <p:cNvPicPr/>
          <p:nvPr/>
        </p:nvPicPr>
        <p:blipFill>
          <a:blip r:embed="rId1"/>
          <a:stretch/>
        </p:blipFill>
        <p:spPr>
          <a:xfrm>
            <a:off x="3276720" y="685800"/>
            <a:ext cx="811080" cy="1066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975120" y="609480"/>
            <a:ext cx="501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UPS"/>
              </a:rPr>
              <a:t>United Parcel Ser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UPS"/>
              </a:rPr>
              <a:t>Deutschland Inc. &amp; Co. OH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United Parcel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981080" y="2247840"/>
          <a:ext cx="7264440" cy="400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47840"/>
                    <a:ext cx="726444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ealth &amp;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81080" y="762120"/>
            <a:ext cx="7086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638680" y="3809880"/>
            <a:ext cx="1447920" cy="609840"/>
          </a:xfrm>
          <a:prstGeom prst="flowChartDisplay">
            <a:avLst/>
          </a:prstGeom>
          <a:solidFill>
            <a:srgbClr val="339966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3733920"/>
            <a:ext cx="2209680" cy="685800"/>
          </a:xfrm>
          <a:prstGeom prst="flowChartMagneticDrum">
            <a:avLst/>
          </a:prstGeom>
          <a:solidFill>
            <a:srgbClr val="ff99cc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6172200"/>
            <a:ext cx="1905120" cy="38088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600200"/>
            <a:ext cx="1905120" cy="38088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24080" y="6172200"/>
            <a:ext cx="1905120" cy="380880"/>
          </a:xfrm>
          <a:prstGeom prst="flowChartTerminator">
            <a:avLst/>
          </a:prstGeom>
          <a:solidFill>
            <a:srgbClr val="ffcc00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Health &amp; Safe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813280" y="2471760"/>
            <a:ext cx="126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fallberi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3962520"/>
            <a:ext cx="990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orm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91320" y="4876920"/>
            <a:ext cx="1292040" cy="804600"/>
          </a:xfrm>
          <a:prstGeom prst="rect">
            <a:avLst/>
          </a:prstGeom>
          <a:solidFill>
            <a:srgbClr val="3366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h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3962520"/>
            <a:ext cx="12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06040" y="5181480"/>
            <a:ext cx="120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79480" y="5105520"/>
            <a:ext cx="1456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fallmeld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8160" y="6248520"/>
            <a:ext cx="1660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er-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78400" y="6248520"/>
            <a:ext cx="134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ersicher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00800" y="198108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00800" y="2971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724280" y="411480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00800" y="441972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028840" y="53341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86600" y="525780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57150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763120" y="5638680"/>
            <a:ext cx="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4800" y="205740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Datenfluß e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Unfallmeld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16800" y="1676520"/>
            <a:ext cx="1355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Unfall-Me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286000"/>
            <a:ext cx="1752480" cy="685800"/>
          </a:xfrm>
          <a:prstGeom prst="flowChartDocumen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76720" y="5029200"/>
            <a:ext cx="1752480" cy="685800"/>
          </a:xfrm>
          <a:prstGeom prst="flowChartDocumen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4952880"/>
            <a:ext cx="1752840" cy="685800"/>
          </a:xfrm>
          <a:prstGeom prst="flowChartDocumen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3352680"/>
            <a:ext cx="1447920" cy="457200"/>
          </a:xfrm>
          <a:prstGeom prst="flowChartManualInput">
            <a:avLst/>
          </a:prstGeom>
          <a:solidFill>
            <a:srgbClr val="339966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38080" y="7621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Datenbankstruktu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410080" y="5410080"/>
            <a:ext cx="1365480" cy="687600"/>
            <a:chOff x="5410080" y="5410080"/>
            <a:chExt cx="1365480" cy="687600"/>
          </a:xfrm>
        </p:grpSpPr>
        <p:sp>
          <p:nvSpPr>
            <p:cNvPr id="129" name=""/>
            <p:cNvSpPr/>
            <p:nvPr/>
          </p:nvSpPr>
          <p:spPr>
            <a:xfrm>
              <a:off x="5419800" y="5421240"/>
              <a:ext cx="13460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19800" y="5757840"/>
              <a:ext cx="1346040" cy="33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19800" y="5746680"/>
              <a:ext cx="1336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10080" y="5410080"/>
              <a:ext cx="1365480" cy="687600"/>
            </a:xfrm>
            <a:prstGeom prst="rect">
              <a:avLst/>
            </a:prstGeom>
            <a:solidFill>
              <a:srgbClr val="3366ff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637240" y="578808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Kosten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74880" y="5465880"/>
              <a:ext cx="125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Kostenstell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5410080" y="2286000"/>
            <a:ext cx="1418040" cy="950760"/>
            <a:chOff x="5410080" y="2286000"/>
            <a:chExt cx="1418040" cy="950760"/>
          </a:xfrm>
        </p:grpSpPr>
        <p:sp>
          <p:nvSpPr>
            <p:cNvPr id="136" name=""/>
            <p:cNvSpPr/>
            <p:nvPr/>
          </p:nvSpPr>
          <p:spPr>
            <a:xfrm>
              <a:off x="5419800" y="2298600"/>
              <a:ext cx="1346040" cy="336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19800" y="2635200"/>
              <a:ext cx="1346040" cy="601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9800" y="2624040"/>
              <a:ext cx="1336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080" y="2286000"/>
              <a:ext cx="1365480" cy="914400"/>
            </a:xfrm>
            <a:prstGeom prst="rect">
              <a:avLst/>
            </a:prstGeom>
            <a:solidFill>
              <a:srgbClr val="339966">
                <a:alpha val="50000"/>
              </a:srgbClr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93600" y="2354400"/>
              <a:ext cx="119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500" spc="-1" strike="noStrike">
                  <a:solidFill>
                    <a:srgbClr val="000000"/>
                  </a:solidFill>
                  <a:latin typeface="Arial"/>
                </a:rPr>
                <a:t>Personallis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84600" y="2664000"/>
              <a:ext cx="134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sonalnum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84960" y="28926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200" spc="-1" strike="noStrike">
                  <a:solidFill>
                    <a:srgbClr val="000000"/>
                  </a:solidFill>
                  <a:latin typeface="Arial"/>
                </a:rPr>
                <a:t>Kostenstel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590920" y="3657600"/>
            <a:ext cx="6904080" cy="1143000"/>
            <a:chOff x="2590920" y="3657600"/>
            <a:chExt cx="6904080" cy="1143000"/>
          </a:xfrm>
        </p:grpSpPr>
        <p:grpSp>
          <p:nvGrpSpPr>
            <p:cNvPr id="144" name=""/>
            <p:cNvGrpSpPr/>
            <p:nvPr/>
          </p:nvGrpSpPr>
          <p:grpSpPr>
            <a:xfrm>
              <a:off x="2590920" y="3657600"/>
              <a:ext cx="1417680" cy="1143000"/>
              <a:chOff x="2590920" y="3657600"/>
              <a:chExt cx="1417680" cy="1143000"/>
            </a:xfrm>
          </p:grpSpPr>
          <p:sp>
            <p:nvSpPr>
              <p:cNvPr id="145" name=""/>
              <p:cNvSpPr/>
              <p:nvPr/>
            </p:nvSpPr>
            <p:spPr>
              <a:xfrm>
                <a:off x="2598840" y="4008240"/>
                <a:ext cx="134604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598840" y="3671640"/>
                <a:ext cx="134604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598840" y="3997080"/>
                <a:ext cx="133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590920" y="3657600"/>
                <a:ext cx="1365120" cy="114120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640960" y="3713040"/>
                <a:ext cx="12747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"/>
                  </a:rPr>
                  <a:t>Arbeitsunfäll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666520" y="4035240"/>
                <a:ext cx="113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Unfallnum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665080" y="4263840"/>
                <a:ext cx="134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200" spc="-1" strike="noStrike">
                    <a:solidFill>
                      <a:srgbClr val="000000"/>
                    </a:solidFill>
                    <a:latin typeface="Arial"/>
                  </a:rPr>
                  <a:t>Personalnum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665440" y="4492440"/>
                <a:ext cx="101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200" spc="-1" strike="noStrike">
                    <a:solidFill>
                      <a:srgbClr val="000000"/>
                    </a:solidFill>
                    <a:latin typeface="Arial"/>
                  </a:rPr>
                  <a:t>Kostenstel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077320" y="3657600"/>
              <a:ext cx="1417680" cy="1143000"/>
              <a:chOff x="8077320" y="3657600"/>
              <a:chExt cx="1417680" cy="1143000"/>
            </a:xfrm>
          </p:grpSpPr>
          <p:sp>
            <p:nvSpPr>
              <p:cNvPr id="154" name=""/>
              <p:cNvSpPr/>
              <p:nvPr/>
            </p:nvSpPr>
            <p:spPr>
              <a:xfrm>
                <a:off x="8155440" y="4267080"/>
                <a:ext cx="1229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Personalnum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088480" y="3671640"/>
                <a:ext cx="1344600" cy="33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088480" y="4008240"/>
                <a:ext cx="1344600" cy="60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088480" y="3997080"/>
                <a:ext cx="13348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077320" y="3657600"/>
                <a:ext cx="1365120" cy="1143000"/>
              </a:xfrm>
              <a:prstGeom prst="rect">
                <a:avLst/>
              </a:prstGeom>
              <a:solidFill>
                <a:srgbClr val="ffcc00">
                  <a:alpha val="50000"/>
                </a:srgbClr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275320" y="3695760"/>
                <a:ext cx="999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500" spc="-1" strike="noStrike">
                    <a:solidFill>
                      <a:srgbClr val="000000"/>
                    </a:solidFill>
                    <a:latin typeface="Arial"/>
                  </a:rPr>
                  <a:t>Kfz-Unfälle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152920" y="4035240"/>
                <a:ext cx="1130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Unfallnum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151840" y="4492440"/>
                <a:ext cx="101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200" spc="-1" strike="noStrike">
                    <a:solidFill>
                      <a:srgbClr val="000000"/>
                    </a:solidFill>
                    <a:latin typeface="Arial"/>
                  </a:rPr>
                  <a:t>Kostenstel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151480" y="4263840"/>
                <a:ext cx="1343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de-DE" sz="1200" spc="-1" strike="noStrike">
                    <a:solidFill>
                      <a:srgbClr val="000000"/>
                    </a:solidFill>
                    <a:latin typeface="Arial"/>
                  </a:rPr>
                  <a:t>Personalnum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3962520" y="4638600"/>
            <a:ext cx="4128840" cy="1349640"/>
            <a:chOff x="3962520" y="4638600"/>
            <a:chExt cx="4128840" cy="1349640"/>
          </a:xfrm>
        </p:grpSpPr>
        <p:grpSp>
          <p:nvGrpSpPr>
            <p:cNvPr id="164" name=""/>
            <p:cNvGrpSpPr/>
            <p:nvPr/>
          </p:nvGrpSpPr>
          <p:grpSpPr>
            <a:xfrm>
              <a:off x="3962520" y="4648320"/>
              <a:ext cx="1430280" cy="1339920"/>
              <a:chOff x="3962520" y="4648320"/>
              <a:chExt cx="1430280" cy="1339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962520" y="4648320"/>
                <a:ext cx="5349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95680" y="4648320"/>
                <a:ext cx="1800" cy="1334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95680" y="5983200"/>
                <a:ext cx="8971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77600" y="58053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16200000">
                <a:off x="4010760" y="4627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6781680" y="4638600"/>
              <a:ext cx="1309680" cy="1346400"/>
              <a:chOff x="6781680" y="4638600"/>
              <a:chExt cx="1309680" cy="1346400"/>
            </a:xfrm>
          </p:grpSpPr>
          <p:sp>
            <p:nvSpPr>
              <p:cNvPr id="171" name=""/>
              <p:cNvSpPr/>
              <p:nvPr/>
            </p:nvSpPr>
            <p:spPr>
              <a:xfrm>
                <a:off x="7661160" y="4648320"/>
                <a:ext cx="4302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800040" y="5791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781680" y="5983200"/>
                <a:ext cx="89712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67640" y="4638600"/>
                <a:ext cx="1440" cy="1335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16200000">
                <a:off x="7896960" y="4636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6162840" y="3191040"/>
            <a:ext cx="192240" cy="2228760"/>
            <a:chOff x="6162840" y="3191040"/>
            <a:chExt cx="192240" cy="2228760"/>
          </a:xfrm>
        </p:grpSpPr>
        <p:sp>
          <p:nvSpPr>
            <p:cNvPr id="177" name=""/>
            <p:cNvSpPr/>
            <p:nvPr/>
          </p:nvSpPr>
          <p:spPr>
            <a:xfrm>
              <a:off x="6219000" y="52102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6220440" y="32266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62840" y="3191040"/>
              <a:ext cx="1440" cy="2228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3960360" y="2590920"/>
            <a:ext cx="4109040" cy="1852560"/>
            <a:chOff x="3960360" y="2590920"/>
            <a:chExt cx="4109040" cy="1852560"/>
          </a:xfrm>
        </p:grpSpPr>
        <p:grpSp>
          <p:nvGrpSpPr>
            <p:cNvPr id="181" name=""/>
            <p:cNvGrpSpPr/>
            <p:nvPr/>
          </p:nvGrpSpPr>
          <p:grpSpPr>
            <a:xfrm>
              <a:off x="3962520" y="2819520"/>
              <a:ext cx="4106880" cy="1623960"/>
              <a:chOff x="3962520" y="2819520"/>
              <a:chExt cx="4106880" cy="16239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6781680" y="2819520"/>
                <a:ext cx="1287720" cy="1604880"/>
                <a:chOff x="6781680" y="2819520"/>
                <a:chExt cx="1287720" cy="16048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6781680" y="2819520"/>
                  <a:ext cx="8715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7645320" y="2828880"/>
                  <a:ext cx="7920" cy="15955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639200" y="4419720"/>
                  <a:ext cx="43020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962520" y="2819520"/>
                <a:ext cx="1428480" cy="1623960"/>
                <a:chOff x="3962520" y="2819520"/>
                <a:chExt cx="1428480" cy="162396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97480" y="2819520"/>
                  <a:ext cx="1440" cy="16239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94240" y="2824920"/>
                  <a:ext cx="8967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62520" y="4430880"/>
                  <a:ext cx="534960" cy="14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"/>
            <p:cNvSpPr/>
            <p:nvPr/>
          </p:nvSpPr>
          <p:spPr>
            <a:xfrm rot="5400000">
              <a:off x="4008240" y="4143240"/>
              <a:ext cx="18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5400000">
              <a:off x="7818120" y="4143240"/>
              <a:ext cx="18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05720" y="259092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81480" y="2590920"/>
              <a:ext cx="18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igenschaften der Daten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elation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tatistikauswertung in Exc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richte per Email versenden (gepl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nutzerhierarchien (geplant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Nähe zum Us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enntnisse über Arbeitsabläuf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Betriebliche Zusammenhän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ragen direkt beantwort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200000"/>
              </a:lnSpc>
              <a:spcBef>
                <a:spcPts val="799"/>
              </a:spcBef>
              <a:buClr>
                <a:srgbClr val="0099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Fachkenntnis der Zielgruppe ergründ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Erkenntn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1760" y="3047760"/>
            <a:ext cx="84200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e Nähe zum Anwender ist der Schlüssel zu einer genauen Analyse und ihrer sauberen Umsetzung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2T16:38:29Z</dcterms:created>
  <dc:creator>Maik Danstedt</dc:creator>
  <dc:description/>
  <dc:language>en-US</dc:language>
  <cp:lastModifiedBy>Maik Danstedt</cp:lastModifiedBy>
  <dcterms:modified xsi:type="dcterms:W3CDTF">2000-06-14T06:57:22Z</dcterms:modified>
  <cp:revision>82</cp:revision>
  <dc:subject/>
  <dc:title>Pojekt Datenbankdokumentation</dc:title>
</cp:coreProperties>
</file>